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A687-54BC-470D-95AA-1FB7FF9A2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NEED A RESOURCE?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ou know exactly what you want. Whether it’s a seminar, a sermon, a skit, or a training event, how do you go about finding the resource? Or will you need to develop the resource your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N’T FORGET THE EXTRAS (OH-9)</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 resource includes more than just information to make it a complete project.</a:t>
            </a:r>
            <a:r>
              <a:rPr b="0" lang="en-US" sz="900" spc="-1" strike="noStrike">
                <a:solidFill>
                  <a:srgbClr val="000000"/>
                </a:solidFill>
                <a:latin typeface="Times New Roman"/>
              </a:rPr>
              <a:t> If the material will be presented as a seminar, it is helpful to also have handouts available for the participants. They can take notes on it and remember what they learned later. Often seminars offer more information than we can assimilate in one sitting. Having handouts and/or a syllabus gives us a reference to go back and review.</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s the difference between a handout and a syllabus? A handout is usually one or two pages and contains only the key thoughts and ideas presented. A syllabus is the entire presentation in written form.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 presenting the material to a group, consider using overheads or PowerPoint presentations.</a:t>
            </a:r>
            <a:r>
              <a:rPr b="0" lang="en-US" sz="900" spc="-1" strike="noStrike">
                <a:solidFill>
                  <a:srgbClr val="000000"/>
                </a:solidFill>
                <a:latin typeface="Times New Roman"/>
              </a:rPr>
              <a:t> Many pastors are using PowerPoint as a regular part of their sermons. Having a visual of the material being presented enables people to not only hear the information, but see it as well. This is an important aspect for those who learn visually.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not need to put all the information on the visuals. Include quotes and scripture you will be referring to. Include the key points—this information can be taken straight from the outline, which can be used to create the overheads or PowerPoint aides.  And include graphics or pictures where appropriate. Avoid a word-only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preparing a sermon which will be used by others, include both an outline and a manuscript of the sermon.</a:t>
            </a:r>
            <a:r>
              <a:rPr b="0" lang="en-US" sz="900" spc="-1" strike="noStrike">
                <a:solidFill>
                  <a:srgbClr val="000000"/>
                </a:solidFill>
                <a:latin typeface="Times New Roman"/>
              </a:rPr>
              <a:t> Some people will prefer to preach from the outline; others will want to use a complete manuscript. Also include all the things needed to make it a complete worship service; scripture readings, suggested hymns, a children’s story, and any other extra readings or materials that will add to the worship experience. People may not use all the extra materials, but most will appreciate i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the end of the material, include a bibliography of the references and materials you use.</a:t>
            </a:r>
            <a:r>
              <a:rPr b="0" lang="en-US" sz="900" spc="-1" strike="noStrike">
                <a:solidFill>
                  <a:srgbClr val="000000"/>
                </a:solidFill>
                <a:latin typeface="Times New Roman"/>
              </a:rPr>
              <a:t>  Include the name of the book, magazine, or website, the title of the material if there is one, the author, the page number or website address, the publisher, and copyright information. (Titles are typed in italics without quotation mark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rst, Tamyra. </a:t>
            </a:r>
            <a:r>
              <a:rPr b="0" i="1" lang="en-US" sz="900" spc="-1" strike="noStrike">
                <a:solidFill>
                  <a:srgbClr val="000000"/>
                </a:solidFill>
                <a:latin typeface="Times New Roman"/>
              </a:rPr>
              <a:t>Ratty Bathrobes, Cranky Kids &amp; Other Romantic Moments</a:t>
            </a:r>
            <a:r>
              <a:rPr b="0" lang="en-US" sz="900" spc="-1" strike="noStrike">
                <a:solidFill>
                  <a:srgbClr val="000000"/>
                </a:solidFill>
                <a:latin typeface="Times New Roman"/>
              </a:rPr>
              <a:t>.</a:t>
            </a:r>
            <a:r>
              <a:rPr b="0" i="1" lang="en-US" sz="900" spc="-1" strike="noStrike">
                <a:solidFill>
                  <a:srgbClr val="000000"/>
                </a:solidFill>
                <a:latin typeface="Times New Roman"/>
              </a:rPr>
              <a:t> </a:t>
            </a:r>
            <a:r>
              <a:rPr b="0" lang="en-US" sz="900" spc="-1" strike="noStrike">
                <a:solidFill>
                  <a:srgbClr val="000000"/>
                </a:solidFill>
                <a:latin typeface="Times New Roman"/>
              </a:rPr>
              <a:t> Review and Herald Publishing: Hagerstown. 2001.</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ences should be included within the material if you’re using a direct quote. Put the author’s name and page number in parentheses after the quote. Avoid placing entire references in the body of the material. Use a footnote or put them at the end in a bibliography.</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752480" y="679320"/>
            <a:ext cx="3354480" cy="2516400"/>
          </a:xfrm>
          <a:prstGeom prst="rect">
            <a:avLst/>
          </a:prstGeom>
          <a:ln w="0">
            <a:noFill/>
          </a:ln>
        </p:spPr>
      </p:sp>
      <p:sp>
        <p:nvSpPr>
          <p:cNvPr id="139"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ISHING THE PROJECT (OH-1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project is almost finished! It’s time to prepare it for reproducing. There are a couple of things to remember when publishing it to ensure that it looks profess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edit the material again for any typographical errors or mistakes. </a:t>
            </a:r>
            <a:r>
              <a:rPr b="0" lang="en-US" sz="800" spc="-1" strike="noStrike">
                <a:solidFill>
                  <a:srgbClr val="000000"/>
                </a:solidFill>
                <a:latin typeface="Times New Roman"/>
              </a:rPr>
              <a:t>Have more than one person edit it for typos and mistakes. Having more than one person is key.  It’s easy to think that you’ve read something correctly. Having more than one person check helps to ensure that all mistakes are caught. Read through each sentence carefully, making sure it is a complete sentence and is comprehensible. Often writers know what they wanted to say, but it doesn’t come out that way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look at it as an overall package.</a:t>
            </a:r>
            <a:r>
              <a:rPr b="0" lang="en-US" sz="800" spc="-1" strike="noStrike">
                <a:solidFill>
                  <a:srgbClr val="000000"/>
                </a:solidFill>
                <a:latin typeface="Times New Roman"/>
              </a:rPr>
              <a:t> Is it easy to read? Most people reading materials just skim through; so put key thoughts in bold so that the most important ideas stand out. Eliminate unnecessary sentences, sentences that don’t add to the point or are repeti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lleted lists can help format information into an eye-catching presentation. They can turn a long paragraph, which most people would likely skip reading, into a more reader-friendly form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careful about using too many illustrations, photos, or clip art.</a:t>
            </a:r>
            <a:r>
              <a:rPr b="0" lang="en-US" sz="800" spc="-1" strike="noStrike">
                <a:solidFill>
                  <a:srgbClr val="000000"/>
                </a:solidFill>
                <a:latin typeface="Times New Roman"/>
              </a:rPr>
              <a:t> These can be distracting. While a good illustration can add to a project, too many will distract. Our eyes are drawn by white space. But remember that “a picture is worth a thousand words,” so do use appropriate photos, illustrations, or art when it will add to the meaning of the tex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oose fonts that are clear and easy to read. </a:t>
            </a:r>
            <a:r>
              <a:rPr b="0" lang="en-US" sz="800" spc="-1" strike="noStrike">
                <a:solidFill>
                  <a:srgbClr val="000000"/>
                </a:solidFill>
                <a:latin typeface="Times New Roman"/>
              </a:rPr>
              <a:t>Our computers today have hundreds of fonts. Fonts like Arial and Times New Roman are very popular. A sans serif typeface, like Arial or Century Gothic, is crisp and clean. Older people like it because it is easier to read. Generation X likes it because it looks clean and current. If your materials are for teens, you may want to consider a font like Teckton. For young adults, try Mead Bold. But don’t use lots of different fonts. Stay away from “pretty” fonts like script fonts and “cute” fonts – typically called display faces, they are good for headings and advertisements, but not for the body of work. They will distract from the information. When it comes to fonts, boring is bet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few basic rules to remember in typing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nly one space after any punctuation, including periods. Before computers, we were taught to put two spaces at the end of each sentence. Spacing is different on computers and typewriters, because computers use “proportional type” instead of the typewriter’s mono-spaced type, type that always used the same amount of space no matter where it w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italics instead of underlining when needed to make something stand out or when using a book tit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not use all capital letters in headlines or sections of tex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ake text easier to read, double space between each paragraph. It will give the material a clean look and not appear as overwhelming to someone who plans on reading it a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your key message points in bold or use them as headings for your material.  Eighty percent of people will not read the body of the material. They will just skim it for the highligh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the resource is not written but is in the display or booth, limit the number of items on the display</a:t>
            </a:r>
            <a:r>
              <a:rPr b="0" lang="en-US" sz="800" spc="-1" strike="noStrike">
                <a:solidFill>
                  <a:srgbClr val="000000"/>
                </a:solidFill>
                <a:latin typeface="Times New Roman"/>
              </a:rPr>
              <a:t>. Choose carefully the items which will tell what you want to share. Too many things will make the display look cluttered. Remembering that our eyes are drawn to “white space,” arrange the items with plenty of space around them, giving a clean look instead of cluttered. If possible, have a limited number of hand outs on the table and replenish as needed instead of piling everything on at once. (You’ll want to check your display periodically, not only to restock supplies, but also to gather up trash left and keep it looking attra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fter checking over the project one final time, it’s time to print it. </a:t>
            </a:r>
            <a:r>
              <a:rPr b="0" lang="en-US" sz="800" spc="-1" strike="noStrike">
                <a:solidFill>
                  <a:srgbClr val="000000"/>
                </a:solidFill>
                <a:latin typeface="Times New Roman"/>
              </a:rPr>
              <a:t>If you have access to a copier or digital duplicating machine, you can easily finish the project yourself. The project can also be dropped off at a printer or office supply store for duplicat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material is going to be shared with others, consider producing your resource on three-hole punched paper (which can be purchased in reams already punched) so that it can easily be put into a notebook. (This is especially true of resources being provided to local WM leaders who can then organize all the resources received in one notebook.) Smaller projects can be collated and stapled, or consider putting a spiral binding on 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resource is finished and is ready to use. Continue to pray that God will use it for His purpos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by contacting your Women’s Ministries director</a:t>
            </a:r>
            <a:r>
              <a:rPr b="0" lang="en-US" sz="800" spc="-1" strike="noStrike">
                <a:solidFill>
                  <a:srgbClr val="000000"/>
                </a:solidFill>
                <a:latin typeface="Times New Roman"/>
              </a:rPr>
              <a:t>. Local leaders contact their conference director; conference directors contact their union director; and so on. The place to begin is the next level of leadershi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leaders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conference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ference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un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divis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vis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GC W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r Women’s Ministries director will be able to help you find the resources you’re looking for or put you in touch with someone who can help you develop the resour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eneral Conference Women’s Ministries, North American Division Women’s Ministries, and South American Division Women’s Ministries departments all have websites which also list available resources</a:t>
            </a:r>
            <a:r>
              <a:rPr b="0" lang="en-US" sz="800" spc="-1" strike="noStrike">
                <a:solidFill>
                  <a:srgbClr val="000000"/>
                </a:solidFill>
                <a:latin typeface="Times New Roman"/>
              </a:rPr>
              <a:t>. The GC Women’s Ministries Department’s is http:</a:t>
            </a:r>
            <a:r>
              <a:rPr b="0" lang="en-US" sz="800" spc="-1" strike="noStrike" u="sng">
                <a:solidFill>
                  <a:srgbClr val="000000"/>
                </a:solidFill>
                <a:uFillTx/>
                <a:latin typeface="Times New Roman"/>
              </a:rPr>
              <a:t>wm.gc.adventist.org.</a:t>
            </a:r>
            <a:r>
              <a:rPr b="0" lang="en-US" sz="800" spc="-1" strike="noStrike">
                <a:solidFill>
                  <a:srgbClr val="000000"/>
                </a:solidFill>
                <a:latin typeface="Times New Roman"/>
              </a:rPr>
              <a:t>  NAD’s website address is </a:t>
            </a:r>
            <a:r>
              <a:rPr b="0" lang="en-US" sz="800" spc="-1" strike="noStrike" u="sng">
                <a:solidFill>
                  <a:srgbClr val="000000"/>
                </a:solidFill>
                <a:uFillTx/>
                <a:latin typeface="Times New Roman"/>
              </a:rPr>
              <a:t>www.nadwm.org</a:t>
            </a:r>
            <a:r>
              <a:rPr b="0" lang="en-US" sz="800" spc="-1" strike="noStrike">
                <a:solidFill>
                  <a:srgbClr val="000000"/>
                </a:solidFill>
                <a:latin typeface="Times New Roman"/>
              </a:rPr>
              <a:t> and SAD’s is www.adventista.org.br/M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vent Sourceis another place to contact.</a:t>
            </a:r>
            <a:r>
              <a:rPr b="0" lang="en-US" sz="800" spc="-1" strike="noStrike">
                <a:solidFill>
                  <a:srgbClr val="000000"/>
                </a:solidFill>
                <a:latin typeface="Times New Roman"/>
              </a:rPr>
              <a:t> Their ministry provides resources and tools to ministry leaders. You can browse through their resources at their website, </a:t>
            </a:r>
            <a:r>
              <a:rPr b="0" lang="en-US" sz="800" spc="-1" strike="noStrike" u="sng">
                <a:solidFill>
                  <a:srgbClr val="000000"/>
                </a:solidFill>
                <a:uFillTx/>
                <a:latin typeface="Times New Roman"/>
              </a:rPr>
              <a:t>www.adventsource.org,</a:t>
            </a:r>
            <a:r>
              <a:rPr b="0" lang="en-US" sz="800" spc="-1" strike="noStrike">
                <a:solidFill>
                  <a:srgbClr val="000000"/>
                </a:solidFill>
                <a:latin typeface="Times New Roman"/>
              </a:rPr>
              <a:t> or contact them by phone, 402-386-2519, by mail, Advent Source, 5040 Prescott Ave, Lincoln NE 68506, or through email at </a:t>
            </a:r>
            <a:r>
              <a:rPr b="0" lang="en-US" sz="800" spc="-1" strike="noStrike" u="sng">
                <a:solidFill>
                  <a:srgbClr val="000000"/>
                </a:solidFill>
                <a:uFillTx/>
                <a:latin typeface="Times New Roman"/>
              </a:rPr>
              <a:t>service@adventsource.o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usLine is a ministry designed to help leaders in their ministries.</a:t>
            </a:r>
            <a:r>
              <a:rPr b="0" lang="en-US" sz="800" spc="-1" strike="noStrike">
                <a:solidFill>
                  <a:srgbClr val="000000"/>
                </a:solidFill>
                <a:latin typeface="Times New Roman"/>
              </a:rPr>
              <a:t> You can contact them by calling, 800-732-7587, or visit their website, </a:t>
            </a:r>
            <a:r>
              <a:rPr b="0" lang="en-US" sz="800" spc="-1" strike="noStrike" u="sng">
                <a:solidFill>
                  <a:srgbClr val="000000"/>
                </a:solidFill>
                <a:uFillTx/>
                <a:latin typeface="Times New Roman"/>
              </a:rPr>
              <a:t>www.plusline.or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Your local Adventist Book Center is another great place to check.</a:t>
            </a:r>
            <a:r>
              <a:rPr b="0" lang="en-US" sz="800" spc="-1" strike="noStrike">
                <a:solidFill>
                  <a:srgbClr val="000000"/>
                </a:solidFill>
                <a:latin typeface="Times New Roman"/>
              </a:rPr>
              <a:t> Or check on line at </a:t>
            </a:r>
            <a:r>
              <a:rPr b="0" lang="en-US" sz="800" spc="-1" strike="noStrike" u="sng">
                <a:solidFill>
                  <a:srgbClr val="000000"/>
                </a:solidFill>
                <a:uFillTx/>
                <a:latin typeface="Times New Roman"/>
              </a:rPr>
              <a:t>www.adventistbookcenter.com.</a:t>
            </a:r>
            <a:r>
              <a:rPr b="0" lang="en-US" sz="800" spc="-1" strike="noStrike">
                <a:solidFill>
                  <a:srgbClr val="000000"/>
                </a:solidFill>
                <a:latin typeface="Times New Roman"/>
              </a:rPr>
              <a:t> The Review and Herald Publishing Association has a Women’s Resource Center which may also have resources available. Their website is </a:t>
            </a:r>
            <a:r>
              <a:rPr b="0" lang="en-US" sz="800" spc="-1" strike="noStrike" u="sng">
                <a:solidFill>
                  <a:srgbClr val="000000"/>
                </a:solidFill>
                <a:uFillTx/>
                <a:latin typeface="Times New Roman"/>
              </a:rPr>
              <a:t>www.rhpa.org</a:t>
            </a:r>
            <a:r>
              <a:rPr b="0" lang="en-US" sz="800" spc="-1" strike="noStrike">
                <a:solidFill>
                  <a:srgbClr val="000000"/>
                </a:solidFill>
                <a:latin typeface="Times New Roman"/>
              </a:rPr>
              <a:t>. Pacific Press is a possible resource also. Their website: www.pacificpress.c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You may find a resource that isn’t quite what you’re looking for but can be adapted.</a:t>
            </a:r>
            <a:r>
              <a:rPr b="0" lang="en-US" sz="800" spc="-1" strike="noStrike">
                <a:solidFill>
                  <a:srgbClr val="000000"/>
                </a:solidFill>
                <a:latin typeface="Times New Roman"/>
              </a:rPr>
              <a:t> If you are publishing this material for someone else, make sure you give credit to the source. Include a note that the material has been adapted from the material of another author.  Cite the author, title of the resource, publisher, and copyright date if applica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But if after checking all your resources, you can’t find what you’re looking for, it’s time to consider developing the resource yourself.</a:t>
            </a:r>
            <a:r>
              <a:rPr b="0" lang="en-US" sz="800" spc="-1" strike="noStrike">
                <a:solidFill>
                  <a:srgbClr val="000000"/>
                </a:solidFill>
                <a:latin typeface="Times New Roman"/>
              </a:rPr>
              <a:t> Sounds overwhelming? Impossible? Not really. Women’s Ministries leaders develop resources to some degree all the time. Every time you ask someone to provide a specific seminar for your retreat or church you are in essence developing a needed resource. It can seem like a big job, but it’s possible to step through the process easily and have a finished project that you can use successfully for your ministry—and which might be a helpful resource to others as well.</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048040" y="679320"/>
            <a:ext cx="2761920" cy="2070360"/>
          </a:xfrm>
          <a:prstGeom prst="rect">
            <a:avLst/>
          </a:prstGeom>
          <a:ln w="0">
            <a:noFill/>
          </a:ln>
        </p:spPr>
      </p:sp>
      <p:sp>
        <p:nvSpPr>
          <p:cNvPr id="123"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NING YOUR RESOURCE (OH-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rst step in developing your resource is deciding what you need. There are a number of details you need to know in advance to help you determine the best resource to develo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ways begin with prayer. </a:t>
            </a:r>
            <a:r>
              <a:rPr b="0" lang="en-US" sz="800" spc="-1" strike="noStrike">
                <a:solidFill>
                  <a:srgbClr val="000000"/>
                </a:solidFill>
                <a:latin typeface="Times New Roman"/>
              </a:rPr>
              <a:t> Ask for God’s guidance. Pray that He will give you wisdom, insight about your audience, strength for the task, and a vision of what He desires for this proje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planning by writing a brief “mission” statement for the resource</a:t>
            </a:r>
            <a:r>
              <a:rPr b="0" lang="en-US" sz="800" spc="-1" strike="noStrike">
                <a:solidFill>
                  <a:srgbClr val="000000"/>
                </a:solidFill>
                <a:latin typeface="Times New Roman"/>
              </a:rPr>
              <a:t>. Ask yourself questions li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purpose/goal of this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is this particular resource need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people to walk away from it wi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to accomplish through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an important element in keeping the resource on track. The more defined the purpose, the more concise the materials can be.   Your mission statement should fit into one sent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sider whom the resource will be going to and how they will be using it. </a:t>
            </a:r>
            <a:r>
              <a:rPr b="0" lang="en-US" sz="800" spc="-1" strike="noStrike">
                <a:solidFill>
                  <a:srgbClr val="000000"/>
                </a:solidFill>
                <a:latin typeface="Times New Roman"/>
              </a:rPr>
              <a:t>Questions to consider would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you developing the resource to use in training or as a seminar to which you will be inviting participa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it be materials you send out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the needs of those who will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be looking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make them want to participate in this particular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ill they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come away wit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familiar are they with the topic that you will be sh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look at the people— who they are, what their lives are like, what they are looking for, etc., to determine how to best develop an effective resource. People’s lives are so busy today. They are budgeting their time by priorities and benefits. They will need to understand how they will benefit from your program before they will be willing to use it or atte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In planning your resource, it is important to determine how the material will be used. Will the resource be sent to others for their use? For example, will it be a worship program for local leaders to use? If others are going to use the materials, it needs to be self explanatory. Take into consideration whom they will be reaching with the materials – their culture, needs, interests, diversity,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e great way to “talk” through your resource is to brainstorm with a group of people.</a:t>
            </a:r>
            <a:r>
              <a:rPr b="0" lang="en-US" sz="800" spc="-1" strike="noStrike">
                <a:solidFill>
                  <a:srgbClr val="000000"/>
                </a:solidFill>
                <a:latin typeface="Times New Roman"/>
              </a:rPr>
              <a:t> You may brainstorm with your committee if you’re working with one, or choose people like those you will be targeting. Get their input and ideas of what they need or would be looking for. Ask other leaders what they have done or for their input on the subject. Getting a variety of insights will help make the resource more effective. Many times others will think of things that you haven’t. And brainstorming can be fu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 you look at the resource from the viewpoint of those it will be ministering to or those who will be using it to minister, you’ll gain a better understanding of what it will need to contain, how long it will be, and what extras you’ll need to include, etc</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ember that you want to provide a resource that is concise and helpful without being overwhelming. But you also want to make sure that the material has everything needed to impact lives. Questions to consider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the resource be used only in written form, presented as a seminar, or bo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it’s a seminar, will everyone be attending the seminar or will others also receive the materials but be unable to attend the class? If so, the syllabus needs to be more comple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big should the resource be? If written, how many pages? Do you want a workbook or handouts to go along with it? If spoken, how long will the speaker have and will there be more than one session time? Will there need to be interactiv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uld overheads or a PowerPoint presentation make the material more effe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ing the time to consider your goals, purpose, and the people to whom you are ministering will help you develop a concise, needed resource for your minis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resource will be used outside of your culture, remember not to use slang words or words that would not translate well.</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YPES OF RESOURCES (OH-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men’s Ministries is as varied as those who participate in it. The necessary resources are just as varied. Some ideas of resources you may develop for your ministry include:</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m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reach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ok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ealth fai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omen’s health issues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ress related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arent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arriage enrichment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itness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teracy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dership train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lett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paper colum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blic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okmarks, inspirational thoughts, etc. to use as program handou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mas, ski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list of possible spea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otional talks which can be used for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play booths for fairs and camp meeting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formation about getting start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nistry ide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ic – theme songs for event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ING THE RESEARCH</a:t>
            </a:r>
            <a:r>
              <a:rPr b="0" lang="en-US" sz="1000" spc="-1" strike="noStrike">
                <a:solidFill>
                  <a:srgbClr val="000000"/>
                </a:solidFill>
                <a:latin typeface="Times New Roman"/>
              </a:rPr>
              <a:t> </a:t>
            </a:r>
            <a:r>
              <a:rPr b="1" lang="en-US" sz="1000" spc="-1" strike="noStrike">
                <a:solidFill>
                  <a:srgbClr val="000000"/>
                </a:solidFill>
                <a:latin typeface="Times New Roman"/>
              </a:rPr>
              <a:t>(OH-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your idea outlined with its purpose, target audience, how it will best meet their needs and the parameters of how long and what is needed, it is time to begin doing your resear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internet has opened a huge world of information. </a:t>
            </a:r>
            <a:r>
              <a:rPr b="0" lang="en-US" sz="1000" spc="-1" strike="noStrike">
                <a:solidFill>
                  <a:srgbClr val="000000"/>
                </a:solidFill>
                <a:latin typeface="Times New Roman"/>
              </a:rPr>
              <a:t>If you don’t have a computer of your own, you can often use computers at local libraries and universities. Just type in your topic in the search engine and you’ll instantly be connected with information from a variety of sources. The internet makes it easy to skim through information, copying or printing only what you want to u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ks are another great source of information.</a:t>
            </a:r>
            <a:r>
              <a:rPr b="0" lang="en-US" sz="1000" spc="-1" strike="noStrike">
                <a:solidFill>
                  <a:srgbClr val="000000"/>
                </a:solidFill>
                <a:latin typeface="Times New Roman"/>
              </a:rPr>
              <a:t> Many speakers put together complete presentations from books they have read and been impacted by. They take the book and come up with an outline of the important elements to include and build from the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s themselves are also a great source for research. Check out your local library. You can often check through their computer or ask the librarian for books on your particular topic. Check out two or three—too many will be overwhelming—and begin from there. Read through the books, taking notes on the information important to you or that you would like to use. Make sure you write down complete quotes of anything you wish to quote, including the title, author of the book, page number of the quote, publisher, and date publish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ople are another great resource.</a:t>
            </a:r>
            <a:r>
              <a:rPr b="0" lang="en-US" sz="1000" spc="-1" strike="noStrike">
                <a:solidFill>
                  <a:srgbClr val="000000"/>
                </a:solidFill>
                <a:latin typeface="Times New Roman"/>
              </a:rPr>
              <a:t> Set up an appointment for an interview. Talk to people who are familiar with the topic that you are researching. If you are putting together a health fair and are looking for booth information on different health topics important to women today, contact your local doctor or hospital. Ask questions. Contact organizations that can provide you with information. For a health fair or talk, you might want to contact the heart association or cancer society. You may be researching a particular topic like depression; check with local Christian counselors and doctors. For a seminar on leadership, contact women’s ministries leaders and also professionals in your community who are recognized for their leadership. Ask questions. For a seminar on leadership, you might want to include a presentation on looking professional.  You could contact an image consult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900080" y="679320"/>
            <a:ext cx="3059280" cy="2293920"/>
          </a:xfrm>
          <a:prstGeom prst="rect">
            <a:avLst/>
          </a:prstGeom>
          <a:ln w="0">
            <a:noFill/>
          </a:ln>
        </p:spPr>
      </p:sp>
      <p:sp>
        <p:nvSpPr>
          <p:cNvPr id="129"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LEGATING: FINDING WRITERS OR RESEARCHERS (OH-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 will use people as a resource not only for information, but also for project delegation! This is particularly helpful if you are already busy with an overly full calendar. Delegating the project to someone else with more time and expertise is an efficient way of putting together a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Women’s Ministries leaders, we already do this. As we plan events and retreats, worship services or seminars, we delegate much of the responsibility. We may ask others to take care of the decorating, music, food, and event promotion.  These are all types of resources needed for a successful event.  Many times we may ask people to plan a seminar for us with a specific topic such as parenting, health, marriage, growing spiritually, prayer, journaling, etc.  These people are developing resources for us by doing the research and/or the writing for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Who do we delegate to?”</a:t>
            </a:r>
            <a:r>
              <a:rPr b="0" lang="en-US" sz="800" spc="-1" strike="noStrike">
                <a:solidFill>
                  <a:srgbClr val="000000"/>
                </a:solidFill>
                <a:latin typeface="Times New Roman"/>
              </a:rPr>
              <a:t> How do we find the right peo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 begin by prayer</a:t>
            </a:r>
            <a:r>
              <a:rPr b="0" lang="en-US" sz="800" spc="-1" strike="noStrike">
                <a:solidFill>
                  <a:srgbClr val="000000"/>
                </a:solidFill>
                <a:latin typeface="Times New Roman"/>
              </a:rPr>
              <a:t>. We ask God to lead us to the right person. Then ask others for ideas. Local leaders can ask their pastor and/or conference director for ideas of people in their area who may have expertise on the subject. Conference directors can check with their union leader, and also with the pastors within their conferences and the conference administration. Many times they will know people with the skills and knowledge to do a great job. The same can be true for union and division lead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 Adventist university, college, or academy/high school in your area is another possible resource.</a:t>
            </a:r>
            <a:r>
              <a:rPr b="0" lang="en-US" sz="800" spc="-1" strike="noStrike">
                <a:solidFill>
                  <a:srgbClr val="000000"/>
                </a:solidFill>
                <a:latin typeface="Times New Roman"/>
              </a:rPr>
              <a:t> The teachers and students may be willing to work on projects and might already have research they can pull fr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ublishing houses and editors of publications may be able to put you in contact with authors who write on the topic you are looking for</a:t>
            </a:r>
            <a:r>
              <a:rPr b="0" lang="en-US" sz="800" spc="-1" strike="noStrike">
                <a:solidFill>
                  <a:srgbClr val="000000"/>
                </a:solidFill>
                <a:latin typeface="Times New Roman"/>
              </a:rPr>
              <a:t>. You may already be familiar with the names of authors whose work you have appreciated. The editor of the publication can put you in contact with them as we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forget to network with other women’s ministries leaders at your level. </a:t>
            </a:r>
            <a:r>
              <a:rPr b="0" lang="en-US" sz="800" spc="-1" strike="noStrike">
                <a:solidFill>
                  <a:srgbClr val="000000"/>
                </a:solidFill>
                <a:latin typeface="Times New Roman"/>
              </a:rPr>
              <a:t>Check with neighboring churches or conferences. They may already have what you are looking for or know of someone who can write the materials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resource many Women’s Ministries leaders, especially those on the local level, often request is a list of speakers. Networking with other local leaders and conference directors can yield the names of many speakers who are new to ministry and are willing to come and present a seminar or retreat for your church or conference. When prayerfully considering a speaker, talk to others who have heard her speak, ask for a tape if she has one available, and go hear her speak for yourself if possible. Keep a list of the speakers you have used, the titles of their presentations, and their phone numbers so that you can make the list available to others searching for someon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find someone, give them as much information as you can about what you’re looking for. If they are providing a written resource, make sure to tell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you want it to b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urpose for the materi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y extras you want to go along with it, like handouts or overhea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y will be presenting a seminar through speaking, make sure they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they ha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oximately how many people will be atten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style of presentation you are looking for – interactive or lecture sty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so expecting a syllabus or handou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et a deadline for your materials, allowing yourself time to produce the materials</a:t>
            </a:r>
            <a:r>
              <a:rPr b="0" lang="en-US" sz="800" spc="-1" strike="noStrike">
                <a:solidFill>
                  <a:srgbClr val="000000"/>
                </a:solidFill>
                <a:latin typeface="Times New Roman"/>
              </a:rPr>
              <a:t>. Consider setting an earlier deadline than you actually need because people often aren’t ready when the deadline comes. That will give you a cushion of time in case the project is late. Make sure the person working on your project knows what is expected and when it is due. Decide the easiest way for you to produce the resource once you have it. Tell the person working on your project how you want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want just a paper cop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the file on disk?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uld they email the file to you?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it formatted for a specific computer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k for the materials not only on disk or as an email file, but also as a paper copy. Receiving it in several ways will assure that you will be able to read the material in at least one format if something doesn’t work with the other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ACTUAL WRITING (AND REWRITING</a:t>
            </a:r>
            <a:r>
              <a:rPr b="0" lang="en-US" sz="800" spc="-1" strike="noStrike">
                <a:solidFill>
                  <a:srgbClr val="000000"/>
                </a:solidFill>
                <a:latin typeface="Times New Roman"/>
              </a:rPr>
              <a:t>) </a:t>
            </a:r>
            <a:r>
              <a:rPr b="1" lang="en-US" sz="800" spc="-1" strike="noStrike">
                <a:solidFill>
                  <a:srgbClr val="000000"/>
                </a:solidFill>
                <a:latin typeface="Times New Roman"/>
              </a:rPr>
              <a:t>(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the research is done, the first step is to organize the notes. Begin by writing an outline of what the resource will look like. What are the important aspects to be covered? What important points do you want to ensure are clearly presented? Keep the outline si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Introduct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 Bod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Outline each important poi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rite down the important aspects of each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If the material is long, use chapters with each chapter being a different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Outline the important aspects of that point within each chap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clude scripture references and/or the sources of all qu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If the material is a short seminar or sermon, state your point in the first sentence of the paragraph and build on that point in the rest of the paragrap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i. Conclus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olid, concise outline will cover all the important aspects of the resource. From an outline, a speaker should be able to make a presentation of the most important ideas included. An outline will clearly show what the material is going to co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ve written the outline, it’s time to begin actually writing the material. Your notes should now be organized to go along with your outli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ing your outline to guide you, begin writing the body of the materia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ite in an informal style, using words that are easy to understa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ppropriate for the material you are writing, use stories to illustrate the points you are making. People enjoy stor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resource will be used by others, avoid using first person stories and/or pronou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oid a preachy or judgmental to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ep your material positive and upbeat, not critical or nega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ce you’ve finished writing, read through the material</a:t>
            </a:r>
            <a:r>
              <a:rPr b="0" lang="en-US" sz="800" spc="-1" strike="noStrike">
                <a:solidFill>
                  <a:srgbClr val="000000"/>
                </a:solidFill>
                <a:latin typeface="Times New Roman"/>
              </a:rPr>
              <a:t>. Look at each point, making sure it is clearly stated. Have you built on the point enough to make it understandable? Remind yourself of the goal of this resource and read through it to make sure the goal is met. Keeping your target audience in mind, attempt to see the material through their eyes. After reading it, will they still have unanswered questions? Will they walk away challenged and inspir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write the material as needed. Then read it again.</a:t>
            </a:r>
            <a:r>
              <a:rPr b="0" lang="en-US" sz="800" spc="-1" strike="noStrike">
                <a:solidFill>
                  <a:srgbClr val="000000"/>
                </a:solidFill>
                <a:latin typeface="Times New Roman"/>
              </a:rPr>
              <a:t> Ask God for guidance, praying that He will show you what is still needed or what needs to be edited out. Continue rewriting and rereading until the resource is what you want it to be. God will give you a peace about the material when it’s ready to g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ORKING WITH DEADLINES/KEEPING A TIME-LINE (OH-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most cases, you will want your resource finished or ready by a certain date. One way to create deadlines and keep everything flowing in a timely manner is to work backwards from your end date, determining how much time each part of the process will take and allowing extra time for missed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cess will include: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ide how much time each part of the process should take. Then begin setting the deadlines, allowing a cushion of time when possi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instance, assume you’re working on a project that you want to use on May 1. That’s your ending date. First you decide how much time each part of the process will ta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 two wee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allowing an extra week before your deadline as a cushion, you then can work backwards and set our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week extra time – your due date becomes April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deadline – one week earlier is April 1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deadline – two weeks earlier is April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 earlier is March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 earlier is February 24; so the process needs to begin by February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ready past February 24 and haven’t developed the idea yet, then you will need to shorten the time each part of the process can take. Always make sure there’s plenty of time to do the research and write the materials. Other aspects may be able to be done in a shorter time, but always allow plenty of time for the research and writing. That will enable it to be a resource with something to off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Unsure of how long each part will take? You may need to make an educated guess. If different people are working on each part, ask them about how much time they will need. If there is no real ending deadline, and you just want the project whenever possible, give reasonable amounts of time for each part of the process, but set deadlines. Many people don’t work well without them and you may never get your resourc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UGGLING SEVERAL PROJECTS AT A TIME (OH-8)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ically, we’re working on more than one project at a time to organize resources, plan events, provide information to others, etc. How do we stay on top of it all at the same ti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ne effective way is to use a calend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either a large desk or wall calendar or in a day planner organizer, write down all the deadlines as soon as they are establish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reminders to yourself a couple of days ahead of a deadline that the deadline is approaching and you need to check with whoever is working on the project, or check on your own progress if you’re doing it yourself.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on the project yourself, it may be helpful to write down goals. What parts of the project do you want to be completed and whe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e time to work on these projec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write a reminder to yourself a day or two after a deadline to check on the project.  Has it met the deadline? Does someone need a push, or do you have all the items you need for that deadli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you’re working on more than one project at a time and you want to be especially organized, try writing notes about each project in a different color</a:t>
            </a:r>
            <a:r>
              <a:rPr b="0" lang="en-US" sz="900" spc="-1" strike="noStrike">
                <a:solidFill>
                  <a:srgbClr val="000000"/>
                </a:solidFill>
                <a:latin typeface="Times New Roman"/>
              </a:rPr>
              <a:t> – one color for each project. Then you will know at a glance at the calendar which project you need to be checking 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ep all information on each project in a folder, clearly labeled with the name of that project.</a:t>
            </a:r>
            <a:r>
              <a:rPr b="0" lang="en-US" sz="900" spc="-1" strike="noStrike">
                <a:solidFill>
                  <a:srgbClr val="000000"/>
                </a:solidFill>
                <a:latin typeface="Times New Roman"/>
              </a:rPr>
              <a:t> Again, you may want to color coordinate your files so that you know which file is for which project at a glance. (If you want to be really organized, you could match the color of the folder with the color of the reminders on your calen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may want to include names of people and their phone numbers on the days you need to check in with them</a:t>
            </a:r>
            <a:r>
              <a:rPr b="0" lang="en-US" sz="900" spc="-1" strike="noStrike">
                <a:solidFill>
                  <a:srgbClr val="000000"/>
                </a:solidFill>
                <a:latin typeface="Times New Roman"/>
              </a:rPr>
              <a:t>. This will keep the information right at your fingertips. You won’t need to go in search of a phone number. Check in with the people who are working on the project from time to time to see how things are going, offering encouragement and support. Also, write their names and contact information on the outside of the project fold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need extra reminders, many email programs today are capable of sending you reminder emails. Just type in a message to yourself and let the computer know when to send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t aside a few minutes every day to evaluate where you are with each project. </a:t>
            </a:r>
            <a:r>
              <a:rPr b="0" lang="en-US" sz="900" spc="-1" strike="noStrike">
                <a:solidFill>
                  <a:srgbClr val="000000"/>
                </a:solidFill>
                <a:latin typeface="Times New Roman"/>
              </a:rPr>
              <a:t>Take five minutes to go over your schedule and projects. Look at where each one is and what is still needed. This will help keep you on top of all the detai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people have their own style or method for staying organized. There is no right way or wrong way to do it. Decide what method works best for you and use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704A3-6B17-4BE5-BDBE-F02582378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39009-FFF8-478A-9990-9A01E3D3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A83D-C83E-4106-8E09-E75A471D8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AA558-E0AC-4C03-AA86-58AF4E0C4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A5A2D-B9D6-414D-ACF3-895779472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31AC6-CC18-4F4F-87F4-AB239F71C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99DDA-3D52-4B1A-93EA-3A324B7DD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F6540-930D-4CDC-A385-7B3D03393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AB665-9C4D-449D-8BBF-524065FDB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E56B6-15EB-496A-B625-788001E94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EC71A-E231-4E22-AFB7-F25CD3645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9D3FC-F1B5-4B86-9559-5A1BBD15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25418-1257-4F10-8E78-588D10F4E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4E3B-457D-4DCA-9202-25A7AA89F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72FAB-CA60-4141-857F-6E6A537DD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5C594-148D-4CB0-B536-A581FFEA0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ABF7E-529A-4A81-9D19-C92E72220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EEFC-B68F-40D7-859F-379DFB61F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ECA6-AFD9-41E3-9BDB-2AC61DF8F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F028-7DAA-47ED-87B8-85747EE89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097B5-D979-4E91-9AF2-0B80C84A1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3A72-F75E-4671-A525-23854FC0F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3443A-18D3-4537-8FE3-F2B7127A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0A31-2860-4513-9E7E-4C9526D1B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039C-B023-43CE-B327-C5A219852679}"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D741-030C-4B64-9FB2-07035A5B3326}"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hyperlink" Target="http://www.pacificpress.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240" y="609480"/>
            <a:ext cx="525780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eveloping Your</a:t>
            </a:r>
            <a:br>
              <a:rPr sz="4400"/>
            </a:br>
            <a:r>
              <a:rPr b="1" lang="en-US" sz="4400" spc="-1" strike="noStrike">
                <a:solidFill>
                  <a:srgbClr val="ffffff"/>
                </a:solidFill>
                <a:latin typeface="Trebuchet MS"/>
              </a:rPr>
              <a:t> </a:t>
            </a:r>
            <a:br>
              <a:rPr sz="4400"/>
            </a:br>
            <a:r>
              <a:rPr b="1" lang="en-US" sz="4400" spc="-1" strike="noStrike">
                <a:solidFill>
                  <a:srgbClr val="ffffff"/>
                </a:solidFill>
                <a:latin typeface="Trebuchet MS"/>
              </a:rPr>
              <a:t>Resources</a:t>
            </a:r>
            <a:endParaRPr b="1" lang="en-US" sz="4400" spc="-1" strike="noStrike">
              <a:solidFill>
                <a:srgbClr val="ffffff"/>
              </a:solidFill>
              <a:latin typeface="Trebuchet MS"/>
            </a:endParaRPr>
          </a:p>
        </p:txBody>
      </p:sp>
      <p:sp>
        <p:nvSpPr>
          <p:cNvPr id="89" name="PlaceHolder 2"/>
          <p:cNvSpPr>
            <a:spLocks noGrp="1"/>
          </p:cNvSpPr>
          <p:nvPr>
            <p:ph/>
          </p:nvPr>
        </p:nvSpPr>
        <p:spPr>
          <a:xfrm>
            <a:off x="3657240" y="2743200"/>
            <a:ext cx="52578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y</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myra Horst</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men’s Ministries</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676520" y="533520"/>
            <a:ext cx="687060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on’t forget the EXTRAS!</a:t>
            </a:r>
            <a:r>
              <a:rPr b="1" lang="en-US" sz="4400" spc="-1" strike="noStrike">
                <a:solidFill>
                  <a:srgbClr val="ffffff"/>
                </a:solidFill>
                <a:latin typeface="Trebuchet MS"/>
              </a:rPr>
              <a:t> </a:t>
            </a:r>
            <a:endParaRPr b="0" lang="en-US" sz="4400" spc="-1" strike="noStrike">
              <a:solidFill>
                <a:srgbClr val="dde3dc"/>
              </a:solidFill>
              <a:latin typeface="Times New Roman"/>
            </a:endParaRPr>
          </a:p>
        </p:txBody>
      </p:sp>
      <p:sp>
        <p:nvSpPr>
          <p:cNvPr id="115" name=""/>
          <p:cNvSpPr/>
          <p:nvPr/>
        </p:nvSpPr>
        <p:spPr>
          <a:xfrm>
            <a:off x="838080" y="1447920"/>
            <a:ext cx="69343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andouts/Syllabuse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heads/PowerPoint'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lude outline and manuscript for sermon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ibliography</a:t>
            </a:r>
            <a:endParaRPr b="0" lang="en-US" sz="3600" spc="-1" strike="noStrike">
              <a:solidFill>
                <a:srgbClr val="dde3dc"/>
              </a:solidFill>
              <a:latin typeface="Times New Roman"/>
            </a:endParaRPr>
          </a:p>
          <a:p>
            <a:pPr lvl="1" marL="743040" indent="-285840">
              <a:lnSpc>
                <a:spcPct val="100000"/>
              </a:lnSpc>
              <a:spcBef>
                <a:spcPts val="2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 within material</a:t>
            </a:r>
            <a:r>
              <a:rPr b="0" lang="en-US" sz="3200" spc="-1" strike="noStrike">
                <a:solidFill>
                  <a:srgbClr val="ffffff"/>
                </a:solidFill>
                <a:latin typeface="Trebuchet MS"/>
              </a:rPr>
              <a:t> </a:t>
            </a:r>
            <a:br>
              <a:rPr sz="800"/>
            </a:br>
            <a:r>
              <a:rPr b="0" lang="en-US" sz="800" spc="-1" strike="noStrike">
                <a:solidFill>
                  <a:srgbClr val="ffffff"/>
                </a:solidFill>
                <a:latin typeface="Trebuchet MS"/>
              </a:rPr>
              <a:t> </a:t>
            </a:r>
            <a:endParaRPr b="0" lang="en-US" sz="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43000" y="15228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Finishing the Project </a:t>
            </a:r>
            <a:endParaRPr b="0" lang="en-US" sz="4400" spc="-1" strike="noStrike">
              <a:solidFill>
                <a:srgbClr val="dde3dc"/>
              </a:solidFill>
              <a:latin typeface="Times New Roman"/>
            </a:endParaRPr>
          </a:p>
        </p:txBody>
      </p:sp>
      <p:sp>
        <p:nvSpPr>
          <p:cNvPr id="117" name="PlaceHolder 1"/>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rst, edit the material again for any typos or mistak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xt, look at it as an overall package.</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 careful about using too many illustrations, photos, or clip art.</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oose fonts that are clear and easy to read.</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ome basic rul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eck again, then pri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5192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rebuchet MS"/>
              </a:rPr>
              <a:t>Do You Need A Resource?</a:t>
            </a:r>
            <a:endParaRPr b="1" lang="en-US" sz="4600" spc="-1" strike="noStrike">
              <a:solidFill>
                <a:srgbClr val="ffffff"/>
              </a:solidFill>
              <a:latin typeface="Trebuchet MS"/>
            </a:endParaRPr>
          </a:p>
        </p:txBody>
      </p:sp>
      <p:sp>
        <p:nvSpPr>
          <p:cNvPr id="91"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C WM Department www.wm.gc.adventist.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D WM Department www.nadwm.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D WM Department </a:t>
            </a:r>
            <a:r>
              <a:rPr b="0" lang="en-US" sz="2800" spc="-1" strike="noStrike" u="sng">
                <a:solidFill>
                  <a:srgbClr val="e08c5e"/>
                </a:solidFill>
                <a:uFillTx/>
                <a:latin typeface="Trebuchet MS"/>
              </a:rPr>
              <a:t>www.adventista.org.br/M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 Source www.adventsourc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us Line www.pluslin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ist Book Centers www.adventistbookcenter.co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 and Herald Publishing Association </a:t>
            </a:r>
            <a:r>
              <a:rPr b="0" lang="en-US" sz="2800" spc="-1" strike="noStrike" u="sng">
                <a:solidFill>
                  <a:srgbClr val="e08c5e"/>
                </a:solidFill>
                <a:uFillTx/>
                <a:latin typeface="Trebuchet MS"/>
                <a:hlinkClick r:id="rId2"/>
              </a:rPr>
              <a:t>www.rhpa.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cific Press Publishing Association </a:t>
            </a:r>
            <a:r>
              <a:rPr b="0" lang="en-US" sz="2800" spc="-1" strike="noStrike" u="sng">
                <a:solidFill>
                  <a:srgbClr val="e08c5e"/>
                </a:solidFill>
                <a:uFillTx/>
                <a:latin typeface="Trebuchet MS"/>
                <a:hlinkClick r:id="rId3"/>
              </a:rPr>
              <a:t>www.pacificpress.com</a:t>
            </a:r>
            <a:endParaRPr b="0" lang="en-US" sz="2800" spc="-1" strike="noStrike">
              <a:solidFill>
                <a:srgbClr val="ffffff"/>
              </a:solidFill>
              <a:latin typeface="Trebuchet MS"/>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457200"/>
            <a:ext cx="8001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Planning Your Resource</a:t>
            </a:r>
            <a:endParaRPr b="1" lang="en-US" sz="4400" spc="-1" strike="noStrike">
              <a:solidFill>
                <a:srgbClr val="ffffff"/>
              </a:solidFill>
              <a:latin typeface="Trebuchet MS"/>
            </a:endParaRPr>
          </a:p>
        </p:txBody>
      </p:sp>
      <p:sp>
        <p:nvSpPr>
          <p:cNvPr id="93" name="PlaceHolder 2"/>
          <p:cNvSpPr>
            <a:spLocks noGrp="1"/>
          </p:cNvSpPr>
          <p:nvPr>
            <p:ph/>
          </p:nvPr>
        </p:nvSpPr>
        <p:spPr>
          <a:xfrm>
            <a:off x="685440" y="1371600"/>
            <a:ext cx="8077320" cy="5029200"/>
          </a:xfrm>
          <a:prstGeom prst="rect">
            <a:avLst/>
          </a:prstGeom>
          <a:noFill/>
          <a:ln w="0">
            <a:noFill/>
          </a:ln>
        </p:spPr>
        <p:txBody>
          <a:bodyPr anchor="t">
            <a:normAutofit fontScale="98000"/>
          </a:bodyPr>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lways begin by praying.</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rite a brief mission statement for the material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sider whom the resource will be for and how they will be using it.</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rainstorm with other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termine what “extras” your resource will need.</a:t>
            </a:r>
            <a:endParaRPr b="0" lang="en-US" sz="3600" spc="-1" strike="noStrike">
              <a:solidFill>
                <a:srgbClr val="ffffff"/>
              </a:solidFill>
              <a:latin typeface="Trebuchet MS"/>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ypes of Resources</a:t>
            </a:r>
            <a:endParaRPr b="1" lang="en-US" sz="4400" spc="-1" strike="noStrike">
              <a:solidFill>
                <a:srgbClr val="ffffff"/>
              </a:solidFill>
              <a:latin typeface="Trebuchet MS"/>
            </a:endParaRPr>
          </a:p>
        </p:txBody>
      </p:sp>
      <p:sp>
        <p:nvSpPr>
          <p:cNvPr id="95" name="PlaceHolder 2"/>
          <p:cNvSpPr>
            <a:spLocks noGrp="1"/>
          </p:cNvSpPr>
          <p:nvPr>
            <p:ph/>
          </p:nvPr>
        </p:nvSpPr>
        <p:spPr>
          <a:xfrm>
            <a:off x="431280" y="1294920"/>
            <a:ext cx="4038840" cy="5257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rmon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minar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utreach program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adership training</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letter</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paper column</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city</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ndout items</a:t>
            </a: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6" name="PlaceHolder 3"/>
          <p:cNvSpPr>
            <a:spLocks noGrp="1"/>
          </p:cNvSpPr>
          <p:nvPr>
            <p:ph/>
          </p:nvPr>
        </p:nvSpPr>
        <p:spPr>
          <a:xfrm>
            <a:off x="4723920" y="1295280"/>
            <a:ext cx="38862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ramas, ski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list of possible speak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votional talk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isplay booth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formation about getting started</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inistry idea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usic – theme for event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380880"/>
            <a:ext cx="687060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Doing the Research</a:t>
            </a:r>
            <a:endParaRPr b="0" lang="en-US" sz="4800" spc="-1" strike="noStrike">
              <a:solidFill>
                <a:srgbClr val="dde3dc"/>
              </a:solidFill>
              <a:latin typeface="Times New Roman"/>
            </a:endParaRPr>
          </a:p>
        </p:txBody>
      </p:sp>
      <p:sp>
        <p:nvSpPr>
          <p:cNvPr id="98" name=""/>
          <p:cNvSpPr/>
          <p:nvPr/>
        </p:nvSpPr>
        <p:spPr>
          <a:xfrm>
            <a:off x="685800" y="1828800"/>
            <a:ext cx="3772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Internet</a:t>
            </a: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eople</a:t>
            </a:r>
            <a:endParaRPr b="0" lang="en-US" sz="3200" spc="-1" strike="noStrike">
              <a:solidFill>
                <a:srgbClr val="dde3dc"/>
              </a:solidFill>
              <a:latin typeface="Times New Roman"/>
            </a:endParaRPr>
          </a:p>
        </p:txBody>
      </p:sp>
      <p:sp>
        <p:nvSpPr>
          <p:cNvPr id="99" name=""/>
          <p:cNvSpPr/>
          <p:nvPr/>
        </p:nvSpPr>
        <p:spPr>
          <a:xfrm>
            <a:off x="5181480" y="1523880"/>
            <a:ext cx="37720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ooks and magazines</a:t>
            </a:r>
            <a:endParaRPr b="0" lang="en-US" sz="3200" spc="-1" strike="noStrike">
              <a:solidFill>
                <a:srgbClr val="dde3dc"/>
              </a:solidFill>
              <a:latin typeface="Times New Roman"/>
            </a:endParaRPr>
          </a:p>
        </p:txBody>
      </p:sp>
      <p:pic>
        <p:nvPicPr>
          <p:cNvPr id="100" name="" descr=""/>
          <p:cNvPicPr/>
          <p:nvPr/>
        </p:nvPicPr>
        <p:blipFill>
          <a:blip r:embed="rId2"/>
          <a:stretch/>
        </p:blipFill>
        <p:spPr>
          <a:xfrm>
            <a:off x="990720" y="3124080"/>
            <a:ext cx="1814400" cy="1513080"/>
          </a:xfrm>
          <a:prstGeom prst="rect">
            <a:avLst/>
          </a:prstGeom>
          <a:ln w="0">
            <a:noFill/>
          </a:ln>
        </p:spPr>
      </p:pic>
      <p:pic>
        <p:nvPicPr>
          <p:cNvPr id="101" name="" descr=""/>
          <p:cNvPicPr/>
          <p:nvPr/>
        </p:nvPicPr>
        <p:blipFill>
          <a:blip r:embed="rId3"/>
          <a:stretch/>
        </p:blipFill>
        <p:spPr>
          <a:xfrm>
            <a:off x="6400800" y="2590920"/>
            <a:ext cx="2360520" cy="1592280"/>
          </a:xfrm>
          <a:prstGeom prst="rect">
            <a:avLst/>
          </a:prstGeom>
          <a:ln w="0">
            <a:noFill/>
          </a:ln>
        </p:spPr>
      </p:pic>
      <p:pic>
        <p:nvPicPr>
          <p:cNvPr id="102" name="" descr=""/>
          <p:cNvPicPr/>
          <p:nvPr/>
        </p:nvPicPr>
        <p:blipFill>
          <a:blip r:embed="rId4"/>
          <a:stretch/>
        </p:blipFill>
        <p:spPr>
          <a:xfrm>
            <a:off x="4648320" y="4114800"/>
            <a:ext cx="2112840" cy="211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ppt_x"/>
                                          </p:val>
                                        </p:tav>
                                        <p:tav tm="100000">
                                          <p:val>
                                            <p:strVal val="#ppt_x"/>
                                          </p:val>
                                        </p:tav>
                                      </p:tavLst>
                                    </p:anim>
                                    <p:anim calcmode="lin" valueType="num">
                                      <p:cBhvr additive="base">
                                        <p:cTn id="4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1000" fill="hold"/>
                                        <p:tgtEl>
                                          <p:spTgt spid="102"/>
                                        </p:tgtEl>
                                        <p:attrNameLst>
                                          <p:attrName>ppt_x</p:attrName>
                                        </p:attrNameLst>
                                      </p:cBhvr>
                                      <p:tavLst>
                                        <p:tav tm="0">
                                          <p:val>
                                            <p:strVal val="#ppt_x"/>
                                          </p:val>
                                        </p:tav>
                                        <p:tav tm="100000">
                                          <p:val>
                                            <p:strVal val="#ppt_x"/>
                                          </p:val>
                                        </p:tav>
                                      </p:tavLst>
                                    </p:anim>
                                    <p:anim calcmode="lin" valueType="num">
                                      <p:cBhvr additive="base">
                                        <p:cTn id="52"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28600" y="685800"/>
            <a:ext cx="8534520" cy="11430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1" lang="en-US" sz="3600" spc="-1" strike="noStrike">
                <a:solidFill>
                  <a:srgbClr val="ffffff"/>
                </a:solidFill>
                <a:latin typeface="Trebuchet MS"/>
              </a:rPr>
              <a:t>Delegating: Finding Writers</a:t>
            </a:r>
            <a:br>
              <a:rPr sz="3600"/>
            </a:br>
            <a:r>
              <a:rPr b="1" lang="en-US" sz="3600" spc="-1" strike="noStrike">
                <a:solidFill>
                  <a:srgbClr val="ffffff"/>
                </a:solidFill>
                <a:latin typeface="Trebuchet MS"/>
              </a:rPr>
              <a:t> or Researchers</a:t>
            </a:r>
            <a:br>
              <a:rPr sz="3600"/>
            </a:br>
            <a:endParaRPr b="0" lang="en-US" sz="3600" spc="-1" strike="noStrike">
              <a:solidFill>
                <a:srgbClr val="dde3dc"/>
              </a:solidFill>
              <a:latin typeface="Times New Roman"/>
            </a:endParaRPr>
          </a:p>
        </p:txBody>
      </p:sp>
      <p:sp>
        <p:nvSpPr>
          <p:cNvPr id="104" name=""/>
          <p:cNvSpPr/>
          <p:nvPr/>
        </p:nvSpPr>
        <p:spPr>
          <a:xfrm>
            <a:off x="304920" y="1676520"/>
            <a:ext cx="76960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gin by praying!</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s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nference Administra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lleges and Universitie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 houses and editors of publication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men’s Ministries leaders (local, conference, union, division)</a:t>
            </a:r>
            <a:endParaRPr b="0" lang="en-US" sz="3200" spc="-1" strike="noStrike">
              <a:solidFill>
                <a:srgbClr val="dde3d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pic>
        <p:nvPicPr>
          <p:cNvPr id="105" name="" descr=""/>
          <p:cNvPicPr/>
          <p:nvPr/>
        </p:nvPicPr>
        <p:blipFill>
          <a:blip r:embed="rId2"/>
          <a:stretch/>
        </p:blipFill>
        <p:spPr>
          <a:xfrm>
            <a:off x="7246800" y="1523880"/>
            <a:ext cx="1555920" cy="2270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6">
                                  <p:stCondLst>
                                    <p:cond delay="0"/>
                                  </p:stCondLst>
                                  <p:childTnLst>
                                    <p:animEffect filter="fade" transition="out">
                                      <p:cBhvr additive="repl">
                                        <p:cTn id="58" dur="1000"/>
                                        <p:tgtEl>
                                          <p:spTgt spid="104">
                                            <p:txEl>
                                              <p:pRg st="0" end="0"/>
                                            </p:txEl>
                                          </p:spTgt>
                                        </p:tgtEl>
                                      </p:cBhvr>
                                    </p:animEffect>
                                    <p:animScale>
                                      <p:cBhvr>
                                        <p:cTn id="59" dur="500" autoRev="1" fill="hold"/>
                                        <p:tgtEl>
                                          <p:spTgt spid="104">
                                            <p:txEl>
                                              <p:pRg st="0" end="0"/>
                                            </p:txEl>
                                          </p:spTgt>
                                        </p:tgtEl>
                                      </p:cBhvr>
                                      <p:to x="105000" y="105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1000"/>
                                        <p:tgtEl>
                                          <p:spTgt spid="104">
                                            <p:txEl>
                                              <p:pRg st="1" end="1"/>
                                            </p:txEl>
                                          </p:spTgt>
                                        </p:tgtEl>
                                      </p:cBhvr>
                                    </p:animEffect>
                                    <p:animScale>
                                      <p:cBhvr>
                                        <p:cTn id="64" dur="500" autoRev="1" fill="hold"/>
                                        <p:tgtEl>
                                          <p:spTgt spid="104">
                                            <p:txEl>
                                              <p:pRg st="1" end="1"/>
                                            </p:txEl>
                                          </p:spTgt>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26">
                                  <p:stCondLst>
                                    <p:cond delay="0"/>
                                  </p:stCondLst>
                                  <p:childTnLst>
                                    <p:animEffect filter="fade" transition="out">
                                      <p:cBhvr additive="repl">
                                        <p:cTn id="68" dur="1000"/>
                                        <p:tgtEl>
                                          <p:spTgt spid="104">
                                            <p:txEl>
                                              <p:pRg st="2" end="2"/>
                                            </p:txEl>
                                          </p:spTgt>
                                        </p:tgtEl>
                                      </p:cBhvr>
                                    </p:animEffect>
                                    <p:animScale>
                                      <p:cBhvr>
                                        <p:cTn id="69" dur="500" autoRev="1" fill="hold"/>
                                        <p:tgtEl>
                                          <p:spTgt spid="104">
                                            <p:txEl>
                                              <p:pRg st="2" end="2"/>
                                            </p:txEl>
                                          </p:spTgt>
                                        </p:tgtEl>
                                      </p:cBhvr>
                                      <p:to x="105000" y="105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26">
                                  <p:stCondLst>
                                    <p:cond delay="0"/>
                                  </p:stCondLst>
                                  <p:childTnLst>
                                    <p:animEffect filter="fade" transition="out">
                                      <p:cBhvr additive="repl">
                                        <p:cTn id="73" dur="1000"/>
                                        <p:tgtEl>
                                          <p:spTgt spid="104">
                                            <p:txEl>
                                              <p:pRg st="3" end="3"/>
                                            </p:txEl>
                                          </p:spTgt>
                                        </p:tgtEl>
                                      </p:cBhvr>
                                    </p:animEffect>
                                    <p:animScale>
                                      <p:cBhvr>
                                        <p:cTn id="74" dur="500" autoRev="1" fill="hold"/>
                                        <p:tgtEl>
                                          <p:spTgt spid="104">
                                            <p:txEl>
                                              <p:pRg st="3" end="3"/>
                                            </p:txEl>
                                          </p:spTgt>
                                        </p:tgtEl>
                                      </p:cBhvr>
                                      <p:to x="105000" y="105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1000"/>
                                        <p:tgtEl>
                                          <p:spTgt spid="104">
                                            <p:txEl>
                                              <p:pRg st="4" end="4"/>
                                            </p:txEl>
                                          </p:spTgt>
                                        </p:tgtEl>
                                      </p:cBhvr>
                                    </p:animEffect>
                                    <p:animScale>
                                      <p:cBhvr>
                                        <p:cTn id="79" dur="500" autoRev="1" fill="hold"/>
                                        <p:tgtEl>
                                          <p:spTgt spid="104">
                                            <p:txEl>
                                              <p:pRg st="4" end="4"/>
                                            </p:txEl>
                                          </p:spTgt>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26">
                                  <p:stCondLst>
                                    <p:cond delay="0"/>
                                  </p:stCondLst>
                                  <p:childTnLst>
                                    <p:animEffect filter="fade" transition="out">
                                      <p:cBhvr additive="repl">
                                        <p:cTn id="83" dur="1000"/>
                                        <p:tgtEl>
                                          <p:spTgt spid="104">
                                            <p:txEl>
                                              <p:pRg st="5" end="5"/>
                                            </p:txEl>
                                          </p:spTgt>
                                        </p:tgtEl>
                                      </p:cBhvr>
                                    </p:animEffect>
                                    <p:animScale>
                                      <p:cBhvr>
                                        <p:cTn id="84" dur="500" autoRev="1" fill="hold"/>
                                        <p:tgtEl>
                                          <p:spTgt spid="104">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The Actual Writing (and rewriting)</a:t>
            </a:r>
            <a:endParaRPr b="0" lang="en-US" sz="4000" spc="-1" strike="noStrike">
              <a:solidFill>
                <a:srgbClr val="dde3dc"/>
              </a:solidFill>
              <a:latin typeface="Times New Roman"/>
            </a:endParaRPr>
          </a:p>
        </p:txBody>
      </p:sp>
      <p:sp>
        <p:nvSpPr>
          <p:cNvPr id="107"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a:t>
            </a:r>
            <a:r>
              <a:rPr b="0" lang="en-US" sz="3200" spc="-1" strike="noStrike">
                <a:solidFill>
                  <a:srgbClr val="ffffff"/>
                </a:solidFill>
                <a:latin typeface="Trebuchet MS"/>
              </a:rPr>
              <a:t> </a:t>
            </a:r>
            <a:r>
              <a:rPr b="1" lang="en-US" sz="3200" spc="-1" strike="noStrike">
                <a:solidFill>
                  <a:srgbClr val="ffffff"/>
                </a:solidFill>
                <a:latin typeface="Trebuchet MS"/>
              </a:rPr>
              <a:t>Introduction</a:t>
            </a:r>
            <a:r>
              <a:rPr b="0" lang="en-US" sz="3200" spc="-1" strike="noStrike">
                <a:solidFill>
                  <a:srgbClr val="ffffff"/>
                </a:solidFill>
                <a:latin typeface="Trebuchet MS"/>
              </a:rPr>
              <a:t> – a summary of what the resource will be about.</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a:t>
            </a:r>
            <a:r>
              <a:rPr b="0" lang="en-US" sz="3200" spc="-1" strike="noStrike">
                <a:solidFill>
                  <a:srgbClr val="ffffff"/>
                </a:solidFill>
                <a:latin typeface="Trebuchet MS"/>
              </a:rPr>
              <a:t> </a:t>
            </a:r>
            <a:r>
              <a:rPr b="1" lang="en-US" sz="3200" spc="-1" strike="noStrike">
                <a:solidFill>
                  <a:srgbClr val="ffffff"/>
                </a:solidFill>
                <a:latin typeface="Trebuchet MS"/>
              </a:rPr>
              <a:t>Body</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i.</a:t>
            </a:r>
            <a:r>
              <a:rPr b="0" lang="en-US" sz="3200" spc="-1" strike="noStrike">
                <a:solidFill>
                  <a:srgbClr val="ffffff"/>
                </a:solidFill>
                <a:latin typeface="Trebuchet MS"/>
              </a:rPr>
              <a:t> </a:t>
            </a:r>
            <a:r>
              <a:rPr b="1" lang="en-US" sz="3200" spc="-1" strike="noStrike">
                <a:solidFill>
                  <a:srgbClr val="ffffff"/>
                </a:solidFill>
                <a:latin typeface="Trebuchet MS"/>
              </a:rPr>
              <a:t>Conclusion</a:t>
            </a:r>
            <a:r>
              <a:rPr b="0" lang="en-US" sz="3200" spc="-1" strike="noStrike">
                <a:solidFill>
                  <a:srgbClr val="ffffff"/>
                </a:solidFill>
                <a:latin typeface="Trebuchet MS"/>
              </a:rPr>
              <a:t> – this will be a summary of what you’ve discussed, clearly summarizing the main points.</a:t>
            </a:r>
            <a:endParaRPr b="0" lang="en-US" sz="3200" spc="-1" strike="noStrike">
              <a:solidFill>
                <a:srgbClr val="dde3dc"/>
              </a:solidFill>
              <a:latin typeface="Times New Roman"/>
            </a:endParaRPr>
          </a:p>
        </p:txBody>
      </p:sp>
      <p:pic>
        <p:nvPicPr>
          <p:cNvPr id="108" name="" descr=""/>
          <p:cNvPicPr/>
          <p:nvPr/>
        </p:nvPicPr>
        <p:blipFill>
          <a:blip r:embed="rId2"/>
          <a:stretch/>
        </p:blipFill>
        <p:spPr>
          <a:xfrm>
            <a:off x="7162920" y="2590920"/>
            <a:ext cx="1981080" cy="1911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91" dur="1000"/>
                                        <p:tgtEl>
                                          <p:spTgt spid="10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07">
                                            <p:txEl>
                                              <p:pRg st="2" end="2"/>
                                            </p:txEl>
                                          </p:spTgt>
                                        </p:tgtEl>
                                        <p:attrNameLst>
                                          <p:attrName>style.visibility</p:attrName>
                                        </p:attrNameLst>
                                      </p:cBhvr>
                                      <p:to>
                                        <p:strVal val="visible"/>
                                      </p:to>
                                    </p:set>
                                    <p:animEffect filter="plus(in)" transition="in">
                                      <p:cBhvr additive="repl">
                                        <p:cTn id="96" dur="1000"/>
                                        <p:tgtEl>
                                          <p:spTgt spid="10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plus(in)" transition="in">
                                      <p:cBhvr additive="repl">
                                        <p:cTn id="101"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457200"/>
            <a:ext cx="822960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Working with Deadlines/Keeping a Time-line</a:t>
            </a:r>
            <a:r>
              <a:rPr b="1" lang="en-US" sz="4800" spc="-1" strike="noStrike">
                <a:solidFill>
                  <a:srgbClr val="ffffff"/>
                </a:solidFill>
                <a:latin typeface="Trebuchet MS"/>
              </a:rPr>
              <a:t> </a:t>
            </a:r>
            <a:endParaRPr b="0" lang="en-US" sz="4800" spc="-1" strike="noStrike">
              <a:solidFill>
                <a:srgbClr val="dde3dc"/>
              </a:solidFill>
              <a:latin typeface="Times New Roman"/>
            </a:endParaRPr>
          </a:p>
        </p:txBody>
      </p:sp>
      <p:sp>
        <p:nvSpPr>
          <p:cNvPr id="110" name=""/>
          <p:cNvSpPr/>
          <p:nvPr/>
        </p:nvSpPr>
        <p:spPr>
          <a:xfrm>
            <a:off x="609480" y="213372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rainstorming and developing the idea</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earching and wr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d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producing the resource</a:t>
            </a:r>
            <a:endParaRPr b="0" lang="en-US" sz="3200" spc="-1" strike="noStrike">
              <a:solidFill>
                <a:srgbClr val="dde3d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e you will use the material or distribute it</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3" presetSubtype="16">
                                  <p:stCondLst>
                                    <p:cond delay="0"/>
                                  </p:stCondLst>
                                  <p:childTnLst>
                                    <p:set>
                                      <p:cBhvr>
                                        <p:cTn id="107"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108" dur="1000"/>
                                        <p:tgtEl>
                                          <p:spTgt spid="110">
                                            <p:txEl>
                                              <p:pRg st="0" end="0"/>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plus(in)" transition="in">
                                      <p:cBhvr additive="repl">
                                        <p:cTn id="111" dur="1000"/>
                                        <p:tgtEl>
                                          <p:spTgt spid="110">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110">
                                            <p:txEl>
                                              <p:pRg st="4" end="4"/>
                                            </p:txEl>
                                          </p:spTgt>
                                        </p:tgtEl>
                                        <p:attrNameLst>
                                          <p:attrName>style.visibility</p:attrName>
                                        </p:attrNameLst>
                                      </p:cBhvr>
                                      <p:to>
                                        <p:strVal val="visible"/>
                                      </p:to>
                                    </p:set>
                                    <p:animEffect filter="plus(in)" transition="in">
                                      <p:cBhvr additive="repl">
                                        <p:cTn id="114" dur="1000"/>
                                        <p:tgtEl>
                                          <p:spTgt spid="110">
                                            <p:txEl>
                                              <p:pRg st="4" end="4"/>
                                            </p:txEl>
                                          </p:spTgt>
                                        </p:tgtEl>
                                      </p:cBhvr>
                                    </p:animEffect>
                                  </p:childTnLst>
                                </p:cTn>
                              </p:par>
                              <p:par>
                                <p:cTn id="115" nodeType="withEffect" fill="hold" presetClass="entr" presetID="13" presetSubtype="16">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plus(in)" transition="in">
                                      <p:cBhvr additive="repl">
                                        <p:cTn id="117" dur="1000"/>
                                        <p:tgtEl>
                                          <p:spTgt spid="110">
                                            <p:txEl>
                                              <p:pRg st="6" end="6"/>
                                            </p:txEl>
                                          </p:spTgt>
                                        </p:tgtEl>
                                      </p:cBhvr>
                                    </p:animEffect>
                                  </p:childTnLst>
                                </p:cTn>
                              </p:par>
                              <p:par>
                                <p:cTn id="118" nodeType="withEffect" fill="hold" presetClass="entr" presetID="13" presetSubtype="16">
                                  <p:stCondLst>
                                    <p:cond delay="0"/>
                                  </p:stCondLst>
                                  <p:childTnLst>
                                    <p:set>
                                      <p:cBhvr>
                                        <p:cTn id="119" dur="1" fill="hold">
                                          <p:stCondLst>
                                            <p:cond delay="0"/>
                                          </p:stCondLst>
                                        </p:cTn>
                                        <p:tgtEl>
                                          <p:spTgt spid="110">
                                            <p:txEl>
                                              <p:pRg st="8" end="8"/>
                                            </p:txEl>
                                          </p:spTgt>
                                        </p:tgtEl>
                                        <p:attrNameLst>
                                          <p:attrName>style.visibility</p:attrName>
                                        </p:attrNameLst>
                                      </p:cBhvr>
                                      <p:to>
                                        <p:strVal val="visible"/>
                                      </p:to>
                                    </p:set>
                                    <p:animEffect filter="plus(in)" transition="in">
                                      <p:cBhvr additive="repl">
                                        <p:cTn id="120" dur="10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0"/>
            <a:ext cx="7543800" cy="13716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Juggling Several Projects at </a:t>
            </a:r>
            <a:br>
              <a:rPr sz="4000"/>
            </a:br>
            <a:r>
              <a:rPr b="1" lang="en-US" sz="4000" spc="-1" strike="noStrike">
                <a:solidFill>
                  <a:srgbClr val="ffffff"/>
                </a:solidFill>
                <a:latin typeface="Trebuchet MS"/>
              </a:rPr>
              <a:t>a Time</a:t>
            </a:r>
            <a:endParaRPr b="0" lang="en-US" sz="4000" spc="-1" strike="noStrike">
              <a:solidFill>
                <a:srgbClr val="dde3dc"/>
              </a:solidFill>
              <a:latin typeface="Times New Roman"/>
            </a:endParaRPr>
          </a:p>
        </p:txBody>
      </p:sp>
      <p:sp>
        <p:nvSpPr>
          <p:cNvPr id="112" name=""/>
          <p:cNvSpPr/>
          <p:nvPr/>
        </p:nvSpPr>
        <p:spPr>
          <a:xfrm>
            <a:off x="45720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How to stay organized?</a:t>
            </a:r>
            <a:endParaRPr b="0" lang="en-US" sz="3000" spc="-1" strike="noStrike">
              <a:solidFill>
                <a:srgbClr val="dde3d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a calenda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lor code each project </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information in a folde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names of people and their phone numbers</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t aside time each day for evaluation</a:t>
            </a:r>
            <a:endParaRPr b="0" lang="en-US" sz="2800" spc="-1" strike="noStrike">
              <a:solidFill>
                <a:srgbClr val="dde3dc"/>
              </a:solidFill>
              <a:latin typeface="Times New Roman"/>
            </a:endParaRPr>
          </a:p>
        </p:txBody>
      </p:sp>
      <p:pic>
        <p:nvPicPr>
          <p:cNvPr id="113" name="" descr=""/>
          <p:cNvPicPr/>
          <p:nvPr/>
        </p:nvPicPr>
        <p:blipFill>
          <a:blip r:embed="rId2"/>
          <a:stretch/>
        </p:blipFill>
        <p:spPr>
          <a:xfrm>
            <a:off x="6248520" y="1905120"/>
            <a:ext cx="2233440" cy="15984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127" dur="1000"/>
                                        <p:tgtEl>
                                          <p:spTgt spid="112">
                                            <p:txEl>
                                              <p:pRg st="2" end="2"/>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130" dur="1000"/>
                                        <p:tgtEl>
                                          <p:spTgt spid="112">
                                            <p:txEl>
                                              <p:pRg st="3" end="3"/>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133" dur="1000"/>
                                        <p:tgtEl>
                                          <p:spTgt spid="112">
                                            <p:txEl>
                                              <p:pRg st="4" end="4"/>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136" dur="1000"/>
                                        <p:tgtEl>
                                          <p:spTgt spid="112">
                                            <p:txEl>
                                              <p:pRg st="5" end="5"/>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139"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Heather-Dawn Small</cp:lastModifiedBy>
  <dcterms:modified xsi:type="dcterms:W3CDTF">2004-07-01T15:40:23Z</dcterms:modified>
  <cp:revision>24</cp:revision>
  <dc:subject/>
  <dc:title>PowerPoint Presentation</dc:title>
</cp:coreProperties>
</file>